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jpeg" ContentType="image/jpeg"/>
  <Override PartName="/ppt/media/image32.wmf" ContentType="image/x-wmf"/>
  <Override PartName="/ppt/media/image20.wmf" ContentType="image/x-wmf"/>
  <Override PartName="/ppt/media/image17.png" ContentType="image/png"/>
  <Override PartName="/ppt/media/image12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10.jpeg" ContentType="image/jpeg"/>
  <Override PartName="/ppt/media/image26.png" ContentType="image/png"/>
  <Override PartName="/ppt/media/image1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3.png" ContentType="image/png"/>
  <Override PartName="/ppt/media/image37.wmf" ContentType="image/x-wmf"/>
  <Override PartName="/ppt/media/image7.wmf" ContentType="image/x-wmf"/>
  <Override PartName="/ppt/media/image36.wmf" ContentType="image/x-wmf"/>
  <Override PartName="/ppt/media/image3.wmf" ContentType="image/x-wmf"/>
  <Override PartName="/ppt/media/image2.jpeg" ContentType="image/jpeg"/>
  <Override PartName="/ppt/media/image23.jpeg" ContentType="image/jpeg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5.wmf" ContentType="image/x-wmf"/>
  <Override PartName="/ppt/media/image16.jpeg" ContentType="image/jpeg"/>
  <Override PartName="/ppt/media/image35.wmf" ContentType="image/x-wmf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141340-F028-4D0F-AC04-0FA37BBB0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4995DB-FED8-49DE-8003-F9F85D79A574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31800" y="4908240"/>
            <a:ext cx="5911920" cy="328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9B652F-36BF-4369-89AD-B3D7258A7740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You are asked for the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You are given the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The speed of light is c = f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λ = c ÷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3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/sec) ÷ (600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z) = 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69FE43-57F9-457B-8B93-9C7D869A0B1C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5960" y="4903560"/>
            <a:ext cx="5805720" cy="34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4A59B8-C443-4D11-907B-A8FAEE288125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5960" y="4903560"/>
            <a:ext cx="5805720" cy="34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0196A0-8C31-46A6-8790-90D5969B80CA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light that you see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polariz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oes not mean the light has no polariz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is actually an equal mixture of all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ordinary light unpolarized because no single polarization dominates the mix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F94F5E-060B-4689-8FB5-C835A35650BF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think about polarization is to think about shaking a spring back and fo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pring is shaken up and down it makes vertical polariz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pring is shaken back and forth it makes horizontal polariz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mov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lo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 in its long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scillation of the wave (and its polarization)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ransver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perpendicular to the direction the wave tra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5EAB0A-544F-4E97-8595-6AA689F0E3C8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light that you see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polariz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oes not mean the light has no polariz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is actually an equal mixture of all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ordinary light unpolarized because no single polarization dominates the mix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AD723F-321A-4369-95E3-02D757E32FD4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light that you see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polariz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oes not mean the light has no polariz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is actually an equal mixture of all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ordinary light unpolarized because no single polarization dominates the mix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1C34CE-C1CC-432A-9D64-E83EA210339B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5960" y="4903560"/>
            <a:ext cx="5805720" cy="34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331601-145E-49D5-89A3-87F042B19F17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83760" y="4816080"/>
            <a:ext cx="6288120" cy="24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344F5D-023C-4FC2-AB78-76945349BA06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You are asked for energy in joules and gallons of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You are given the mass, a percent converted to energy, and J/gallon for gaso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Einstein’s formula: 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The amount of mass converted to energy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0.007 x 100 kg = 0.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(0.7 kg)(3 x 108 m/sec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6.3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equivalent in gasoline divide by the energy per gall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6.3 x 1016 J ÷ 1.3 x 108 J/g = 4.8 x 108 gal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480 million gallons ofgaso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F4BE7A-D34D-4583-8242-CB7759F3D4E0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5960" y="4903560"/>
            <a:ext cx="5805720" cy="34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37364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8784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648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244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648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244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240" y="1165320"/>
            <a:ext cx="8915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8784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520" y="437364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8784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5648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440" y="240660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52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5648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440" y="4373640"/>
            <a:ext cx="264348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1165320"/>
            <a:ext cx="8915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87840" y="437364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7840" y="2406600"/>
            <a:ext cx="400644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373640"/>
            <a:ext cx="8210520" cy="17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1" marL="682560" indent="-423720">
              <a:spcBef>
                <a:spcPts val="876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2" marL="977760" indent="-293400">
              <a:spcBef>
                <a:spcPts val="876"/>
              </a:spcBef>
              <a:buClr>
                <a:srgbClr val="00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3" marL="1262160" indent="-282600">
              <a:spcBef>
                <a:spcPts val="876"/>
              </a:spcBef>
              <a:buClr>
                <a:srgbClr val="0099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4" marL="1506600" indent="-243000">
              <a:spcBef>
                <a:spcPts val="876"/>
              </a:spcBef>
              <a:buClr>
                <a:srgbClr val="0099ff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5" marL="1506600" indent="-243000">
              <a:spcBef>
                <a:spcPts val="876"/>
              </a:spcBef>
              <a:buClr>
                <a:srgbClr val="000099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6" marL="1506600" indent="-243000">
              <a:spcBef>
                <a:spcPts val="876"/>
              </a:spcBef>
              <a:buClr>
                <a:srgbClr val="000099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Line 6"/>
          <p:cNvSpPr/>
          <p:nvPr/>
        </p:nvSpPr>
        <p:spPr>
          <a:xfrm>
            <a:off x="474840" y="3429000"/>
            <a:ext cx="821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1" marL="682560" indent="-423720">
              <a:spcBef>
                <a:spcPts val="876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2" marL="977760" indent="-293400">
              <a:spcBef>
                <a:spcPts val="876"/>
              </a:spcBef>
              <a:buClr>
                <a:srgbClr val="00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3" marL="1262160" indent="-282600">
              <a:spcBef>
                <a:spcPts val="876"/>
              </a:spcBef>
              <a:buClr>
                <a:srgbClr val="0099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4" marL="1506600" indent="-243000">
              <a:spcBef>
                <a:spcPts val="876"/>
              </a:spcBef>
              <a:buClr>
                <a:srgbClr val="0099ff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5" marL="1506600" indent="-243000">
              <a:spcBef>
                <a:spcPts val="876"/>
              </a:spcBef>
              <a:buClr>
                <a:srgbClr val="000099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6" marL="1506600" indent="-243000">
              <a:spcBef>
                <a:spcPts val="876"/>
              </a:spcBef>
              <a:buClr>
                <a:srgbClr val="000099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45655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Futura Md BT"/>
              </a:rPr>
              <a:t>Unit 6, Chapter 18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487520" y="3063960"/>
            <a:ext cx="43956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56240"/>
            <a:ext cx="64072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ill Sans MT"/>
              </a:rPr>
              <a:t>CPO Science</a:t>
            </a:r>
            <a:endParaRPr b="0" lang="en-US" sz="4400" spc="-1" strike="noStrike">
              <a:solidFill>
                <a:srgbClr val="000099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ill Sans MT"/>
              </a:rPr>
              <a:t>Foundations of Physics</a:t>
            </a:r>
            <a:endParaRPr b="0" lang="en-US" sz="4400" spc="-1" strike="noStrike">
              <a:solidFill>
                <a:srgbClr val="000099"/>
              </a:solidFill>
              <a:latin typeface="Symbo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Calculate wavelength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43400" y="2406240"/>
            <a:ext cx="424800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33640" indent="-2336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Calculate the wavelength in air of blue-green light that has a frequency of 600 × 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Futura Md BT"/>
              </a:rPr>
              <a:t>12</a:t>
            </a: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 Hz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276360" cy="122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2"/>
          <a:stretch/>
        </p:blipFill>
        <p:spPr>
          <a:xfrm>
            <a:off x="0" y="4551480"/>
            <a:ext cx="9144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Waves of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167040" indent="-16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utura Md BT"/>
              </a:rPr>
              <a:t>Visible light</a:t>
            </a: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 is a small part of the energy range of electromagnetic waves. 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167040" indent="-16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e whole range is called the electromagnetic spectrum and visible light is in the middle of it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167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24" name="Picture 8" descr="24_1 electromagneticspec"/>
          <p:cNvPicPr/>
          <p:nvPr/>
        </p:nvPicPr>
        <p:blipFill>
          <a:blip r:embed="rId1"/>
          <a:srcRect l="0" t="19978" r="0" b="25906"/>
          <a:stretch/>
        </p:blipFill>
        <p:spPr>
          <a:xfrm>
            <a:off x="1523880" y="4343400"/>
            <a:ext cx="659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Waves of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Radio wave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are on the low-frequency end of the spectrum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Microwave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range in length from approximately 30 cm (about 12 inches) to about 1 mm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 infrared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(or IR) region of the electromagnetic spectrum lies between microwaves and visible light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257800" y="2755800"/>
            <a:ext cx="36576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8_6 electspectrum"/>
          <p:cNvPicPr/>
          <p:nvPr/>
        </p:nvPicPr>
        <p:blipFill>
          <a:blip r:embed="rId1"/>
          <a:stretch/>
        </p:blipFill>
        <p:spPr>
          <a:xfrm>
            <a:off x="431640" y="431640"/>
            <a:ext cx="828072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Waves of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675720" indent="-41940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Ultraviolet radiation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has a range of wavelengths from 400 down to about 10 nm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75720" indent="-41940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X-ray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are high-frequency waves that have great penetrating power and are used extensively in medical and manufacturing application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75720" indent="-41940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Gamma ray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are generated in nuclear reaction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262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4_1 electromagneticspec"/>
          <p:cNvPicPr/>
          <p:nvPr/>
        </p:nvPicPr>
        <p:blipFill>
          <a:blip r:embed="rId1"/>
          <a:stretch/>
        </p:blipFill>
        <p:spPr>
          <a:xfrm>
            <a:off x="412920" y="571680"/>
            <a:ext cx="83944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64960"/>
            <a:ext cx="876312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Interference, Diffraction, and Polariz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  <a:ea typeface="Times New Roman"/>
              </a:rPr>
              <a:t>Key Question: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What are some ways light behaves like a wave?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57200" y="5334120"/>
            <a:ext cx="419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*Students read Section 18.2  AFTER Investigation 18.2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45720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Interference, Diffraction, and Polariz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406600"/>
            <a:ext cx="4029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28600" indent="-22860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n 1807, Thomas Young (1773-1829) did the most convincing experiment demonstrating that light is a wave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28600" indent="-22860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beam of light fell on a pair of parallel, very thin slits in a piece of metal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28600" indent="-22860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fter passing through the slits, the light fell on a screen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0" y="4876560"/>
            <a:ext cx="4114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pattern of alternating bright and dark bands formed is called an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interference pattern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0388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18_6 interference"/>
          <p:cNvPicPr/>
          <p:nvPr/>
        </p:nvPicPr>
        <p:blipFill>
          <a:blip r:embed="rId1"/>
          <a:stretch/>
        </p:blipFill>
        <p:spPr>
          <a:xfrm>
            <a:off x="469800" y="565200"/>
            <a:ext cx="82044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Diffraction grating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diffraction grating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is a precise array of tiny engraved lines, each of which allows light through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spectrum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produced is a mixture of many different wavelengths of light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191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7360" y="1165320"/>
            <a:ext cx="84171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Unit 6: Light and Optic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30481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44080" indent="-244080">
              <a:spcBef>
                <a:spcPts val="2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18.1 The Electromagnetic Spectrum</a:t>
            </a:r>
            <a:endParaRPr b="1" lang="en-US" sz="3200" spc="-1" strike="noStrike">
              <a:solidFill>
                <a:srgbClr val="0000ff"/>
              </a:solidFill>
              <a:latin typeface="Futura Md BT"/>
            </a:endParaRPr>
          </a:p>
          <a:p>
            <a:pPr marL="244080" indent="-244080">
              <a:spcBef>
                <a:spcPts val="2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18.2 Interference, Diffraction, and 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Polarization</a:t>
            </a:r>
            <a:endParaRPr b="1" lang="en-US" sz="3200" spc="-1" strike="noStrike">
              <a:solidFill>
                <a:srgbClr val="0000ff"/>
              </a:solidFill>
              <a:latin typeface="Futura Md BT"/>
            </a:endParaRPr>
          </a:p>
          <a:p>
            <a:pPr marL="244080" indent="-244080">
              <a:spcBef>
                <a:spcPts val="2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utura Md BT"/>
              </a:rPr>
              <a:t>18.3 Special Relativity</a:t>
            </a:r>
            <a:endParaRPr b="1" lang="en-US" sz="32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9920" y="1752480"/>
            <a:ext cx="7315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Futura Md BT"/>
              </a:rPr>
              <a:t>Chapter 18 Wave Properties of Light</a:t>
            </a:r>
            <a:endParaRPr b="0" lang="en-US" sz="3200" spc="-1" strike="noStrike">
              <a:solidFill>
                <a:srgbClr val="000099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How a Diffraction Grating Work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51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When you look at a diffracted light you see: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light straight ahead as if the grating were transparent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"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central bright spot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"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668880" indent="-415080">
              <a:spcBef>
                <a:spcPts val="751"/>
              </a:spcBef>
              <a:buClr>
                <a:srgbClr val="0099ff"/>
              </a:buClr>
              <a:buFont typeface="Futura Md B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interference of all other light waves from many different grooves produces a scattered pattern called a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spectrum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17913" r="0" b="0"/>
          <a:stretch/>
        </p:blipFill>
        <p:spPr>
          <a:xfrm>
            <a:off x="5105520" y="1752480"/>
            <a:ext cx="3902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Spectrometer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51640" indent="-2516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spectrometer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is a device that measures the wavelength of light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1640" indent="-2516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diffraction grating can be used to make a spectrometer because the wavelength of the light at the first-order bright spot can be expressed in a mathematical relationship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4724280" y="2154240"/>
            <a:ext cx="42674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Grating Formula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971800" y="3048120"/>
            <a:ext cx="3733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Symbol"/>
              </a:rPr>
              <a:t>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= d sin</a:t>
            </a:r>
            <a:r>
              <a:rPr b="1" lang="en-US" sz="3600" spc="-1" strike="noStrike">
                <a:solidFill>
                  <a:srgbClr val="003399"/>
                </a:solidFill>
                <a:latin typeface="Symbol"/>
              </a:rPr>
              <a:t></a:t>
            </a:r>
            <a:r>
              <a:rPr b="1" lang="en-US" sz="3600" spc="-1" strike="noStrike" u="sng">
                <a:solidFill>
                  <a:srgbClr val="003399"/>
                </a:solidFill>
                <a:uFillTx/>
                <a:latin typeface="Gill Sans MT"/>
              </a:rPr>
              <a:t>dw</a:t>
            </a:r>
            <a:endParaRPr b="0" lang="en-US" sz="36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      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	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	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     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L</a:t>
            </a:r>
            <a:endParaRPr b="0" lang="en-US" sz="36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3" name="Line 4"/>
          <p:cNvSpPr/>
          <p:nvPr/>
        </p:nvSpPr>
        <p:spPr>
          <a:xfrm flipV="1">
            <a:off x="3962520" y="2666520"/>
            <a:ext cx="304560" cy="38124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6172200" y="4133880"/>
            <a:ext cx="380880" cy="51444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2133720" y="3371760"/>
            <a:ext cx="6285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517480" y="2162160"/>
            <a:ext cx="52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distance between grating lines (m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774760" y="4619520"/>
            <a:ext cx="284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distance 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between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screen and glasses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42280" y="2971800"/>
            <a:ext cx="1882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wavelength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of light (nm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381680" y="6035760"/>
            <a:ext cx="475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d= 13,500 lines/inch = ? lines/m 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5486400" y="2762280"/>
            <a:ext cx="30492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6794640" y="2819520"/>
            <a:ext cx="2197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distance between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2 first order bright spots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62" name="Line 13"/>
          <p:cNvSpPr/>
          <p:nvPr/>
        </p:nvSpPr>
        <p:spPr>
          <a:xfrm flipH="1">
            <a:off x="6553080" y="3352680"/>
            <a:ext cx="60984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Polariz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Polarization is another wave property of light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fact that light shows polarization tells us that light is a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transverse wave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65" name="Picture 10" descr=""/>
          <p:cNvPicPr/>
          <p:nvPr/>
        </p:nvPicPr>
        <p:blipFill>
          <a:blip r:embed="rId1"/>
          <a:stretch/>
        </p:blipFill>
        <p:spPr>
          <a:xfrm>
            <a:off x="2819520" y="3270240"/>
            <a:ext cx="41907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18_6 polarization"/>
          <p:cNvPicPr/>
          <p:nvPr/>
        </p:nvPicPr>
        <p:blipFill>
          <a:blip r:embed="rId1"/>
          <a:stretch/>
        </p:blipFill>
        <p:spPr>
          <a:xfrm>
            <a:off x="571680" y="476280"/>
            <a:ext cx="8001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Polariz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Polarization is a vector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wave with polarization at 45 degrees can be represented as the sum of two waves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Each of the component waves has smaller amplitude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4711680" y="1905120"/>
            <a:ext cx="4432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18_6 polarizers"/>
          <p:cNvPicPr/>
          <p:nvPr/>
        </p:nvPicPr>
        <p:blipFill>
          <a:blip r:embed="rId1"/>
          <a:stretch/>
        </p:blipFill>
        <p:spPr>
          <a:xfrm>
            <a:off x="469800" y="457200"/>
            <a:ext cx="8204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Polariz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00160" indent="-2001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polarizer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is a material that selectively absorbs light depending on polarization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00160" indent="-2001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polarizer re-emits a fraction of incident light polarized at an angle to the transmission axi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133720" y="3720960"/>
            <a:ext cx="47242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2 Applications of Polarizer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5720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Polarizing sunglasses are used to reduce the glare of reflected light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LCD (liquid crystal diode) screen on a laptop computer uses polarized light to make picture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34120" y="1895400"/>
            <a:ext cx="3124080" cy="2371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1600200" y="4724280"/>
            <a:ext cx="67816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165320"/>
            <a:ext cx="87631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pecial Relativity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  <a:ea typeface="Times New Roman"/>
              </a:rPr>
              <a:t>Key Question: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What are some of the implications of special relativity?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57200" y="5334120"/>
            <a:ext cx="419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*Students read Section 18.3  AFTER Investigation 18.3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rcRect l="0" t="16083" r="0" b="32146"/>
          <a:stretch/>
        </p:blipFill>
        <p:spPr>
          <a:xfrm>
            <a:off x="4876920" y="2743200"/>
            <a:ext cx="4222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7960" y="1096920"/>
            <a:ext cx="7259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hapter 18 Objective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Calculate the frequency or wavelength of light when given one of the two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Describe the relationship between frequency, energy, color, and wavelength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Identify at least three different waves of the electromagnetic spectrum and an application of each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Interpret the interference pattern from a diffraction grating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Use the concept of polarization to explain what happens as light passes through two polarizers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  <a:p>
            <a:pPr marL="498960" indent="-498960">
              <a:lnSpc>
                <a:spcPct val="90000"/>
              </a:lnSpc>
              <a:spcBef>
                <a:spcPts val="71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Describe at least two implications of special relativity with regards to energy, time, mass, or distance.</a:t>
            </a:r>
            <a:endParaRPr b="1" lang="en-US" sz="23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pecial Relativity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358164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e theory of </a:t>
            </a:r>
            <a:r>
              <a:rPr b="0" lang="en-US" sz="2800" spc="-1" strike="noStrike">
                <a:solidFill>
                  <a:srgbClr val="ff0000"/>
                </a:solidFill>
                <a:latin typeface="Futura Md BT"/>
              </a:rPr>
              <a:t>special relativity</a:t>
            </a: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 describes what happens to matter, energy, time, and space at speeds close to the speed of light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rcRect l="5839" t="0" r="4186" b="0"/>
          <a:stretch/>
        </p:blipFill>
        <p:spPr>
          <a:xfrm>
            <a:off x="5143680" y="1143000"/>
            <a:ext cx="3619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pecial Relativity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2406600"/>
            <a:ext cx="82105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ese effects are observed in physics labs: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lvl="1" marL="716040" indent="-457200">
              <a:spcBef>
                <a:spcPts val="75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ime moves more slowly for an object in motion than it does for objects that are not in motion. This is called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time dilation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716040" indent="-457200">
              <a:spcBef>
                <a:spcPts val="75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s objects move faster, their mass increase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716040" indent="-457200">
              <a:spcBef>
                <a:spcPts val="75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definition of the word “simultaneous” change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lvl="1" marL="716040" indent="-457200">
              <a:spcBef>
                <a:spcPts val="751"/>
              </a:spcBef>
              <a:buClr>
                <a:srgbClr val="0099ff"/>
              </a:buClr>
              <a:buFont typeface="Futura Md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Space itself gets smaller for an  observer moving near the speed of light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peed of light paradox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474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The theory of special relativity comes from thinking about </a:t>
            </a: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light</a:t>
            </a:r>
            <a:r>
              <a:rPr b="1" lang="en-US" sz="28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38480" y="312408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41560" indent="-2415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ball thrown from a moving train approaches you at the speed of the ball relative to the tra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plu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the speed of the train relative to you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41560" indent="-2415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speed of light appears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same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to all observers independent of their relative motion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914400" y="3075120"/>
            <a:ext cx="1967040" cy="1039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322200" y="4417920"/>
            <a:ext cx="3411720" cy="1022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52280" y="5535720"/>
            <a:ext cx="373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peed of light paradox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01480" indent="-50148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f the person on the train were to shine a flashlight toward you, you would expect the light to approach you faster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01480" indent="-50148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light should come toward you at 3 × 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Futura Md BT"/>
              </a:rPr>
              <a:t>8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m/sec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plus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the speed of the train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01480" indent="-50148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But Michelson and Morley found experimentally that the light comes toward you at a speed of 3 × 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Futura Md BT"/>
              </a:rPr>
              <a:t>8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m/sec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no matter how fast the train approaches you!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76320" y="5330880"/>
            <a:ext cx="4495680" cy="1527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"/>
          <p:cNvPicPr/>
          <p:nvPr/>
        </p:nvPicPr>
        <p:blipFill>
          <a:blip r:embed="rId2"/>
          <a:srcRect l="0" t="5062" r="2357" b="0"/>
          <a:stretch/>
        </p:blipFill>
        <p:spPr>
          <a:xfrm>
            <a:off x="4572000" y="5362560"/>
            <a:ext cx="4495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Consequences of time dilation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n the early 1970s an experiment was performed by synchronizing two precise atomic clocks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33520" indent="-533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One was put on a plane and flown around the world, the other was left on the ground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33520" indent="-533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When the flying clock returned home, the clocks were compared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33520" indent="-533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clock on the plane measured less time than the clock on the ground. The difference agreed precisely with special relativity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Einstein's formula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603600" y="3962520"/>
            <a:ext cx="1828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Symbol"/>
              </a:rPr>
              <a:t>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mc</a:t>
            </a:r>
            <a:r>
              <a:rPr b="1" lang="en-US" sz="3600" spc="-1" strike="noStrike" baseline="30000">
                <a:solidFill>
                  <a:srgbClr val="003399"/>
                </a:solidFill>
                <a:latin typeface="Gill Sans MT"/>
              </a:rPr>
              <a:t>2</a:t>
            </a:r>
            <a:endParaRPr b="0" lang="en-US" sz="36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4746600" y="4572000"/>
            <a:ext cx="380880" cy="51444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2689200" y="4286160"/>
            <a:ext cx="6285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032800" y="5257800"/>
            <a:ext cx="144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Mass (kg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013760" y="4130640"/>
            <a:ext cx="144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Energy (J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6041880" y="4038480"/>
            <a:ext cx="219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speed of light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3.0 x10</a:t>
            </a:r>
            <a:r>
              <a:rPr b="1" lang="en-US" sz="2400" spc="-1" strike="noStrike" baseline="30000">
                <a:solidFill>
                  <a:srgbClr val="6699ff"/>
                </a:solidFill>
                <a:latin typeface="Gill Sans MT"/>
              </a:rPr>
              <a:t>8</a:t>
            </a: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 m/sec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6" name="Line 13"/>
          <p:cNvSpPr/>
          <p:nvPr/>
        </p:nvSpPr>
        <p:spPr>
          <a:xfrm flipH="1">
            <a:off x="5279760" y="4343400"/>
            <a:ext cx="60948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2105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is equation tells us that matter and energy are really two forms of the same thing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The equivalence of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energy and mas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06520" indent="-506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f a particle of matter is as rest, it has a total amount of energy equal to its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rest energy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06520" indent="-506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f work is done to a particle by applying force, the energy of the particle increases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06520" indent="-506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t speeds that are far from the speed of light, all the work done increases the kinetic energy of the particle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06520" indent="-506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t would take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infinite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amount of work to accelerate a particle to the speed of light, because at the speed of light the mass of a particle also becomes infinite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164960"/>
            <a:ext cx="891540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The equivalence of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energy and mas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28120" indent="-528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Einstein’s was able to deduce the equivalent of mass and energy by thinking about the momentum of two particles moving near the speed of light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528120" indent="-528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Since the speed of light must be the same for all observers regardless of their relative motion and energy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Futura Md BT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momentum must be conserved, as the speed of an object gets near the speed of light, the increase in mass must come from energy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Calculate equivalent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90760" y="205704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49120" indent="-249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nuclear reactor converts 0.7% of the mass of uranium to energy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49120" indent="-249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If the reactor used 100 kg of uranium in a year, how much energy is released?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49120" indent="-249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One gallon of gasoline releases 1.3 × 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Futura Md BT"/>
              </a:rPr>
              <a:t>8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joules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49120" indent="-2491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How many gallons of gasoline does it take to release the same energy as the uranium?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0481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3 Simultaneity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24062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two lightning strikes are simultaneous to the observer at rest, but the observer moving with the train sees the lightning strike the front of the train first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362320" y="3740040"/>
            <a:ext cx="46479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839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hapter 18 Vocabulary Terms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38080" y="1752480"/>
            <a:ext cx="3276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x-ray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spectrum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microwave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index of refraction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electromagnetic wave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spectrometer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gamma ray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radio wave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transmission axis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diffraction grating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special relativity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4724280" y="1752480"/>
            <a:ext cx="3657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polarization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polarizer rest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energy destructive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interference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ultraviolet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time dilation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infrared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speed of light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constructive interference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visible light 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  <a:p>
            <a:pPr marL="257040" indent="-257040">
              <a:lnSpc>
                <a:spcPct val="100000"/>
              </a:lnSpc>
              <a:spcBef>
                <a:spcPts val="28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Futura Md BT"/>
              </a:rPr>
              <a:t>wavelength</a:t>
            </a:r>
            <a:endParaRPr b="0" lang="en-US" sz="2300" spc="-1" strike="noStrike">
              <a:solidFill>
                <a:srgbClr val="000099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185840"/>
            <a:ext cx="8458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Application: Holography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pic>
        <p:nvPicPr>
          <p:cNvPr id="219" name="Picture 22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538360" cy="221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449604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165320"/>
            <a:ext cx="87631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466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utura Md BT"/>
                <a:ea typeface="Times New Roman"/>
              </a:rPr>
              <a:t>Key Question: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466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What is the electromagnetic spectrum?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85800" y="5334120"/>
            <a:ext cx="419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*Students read Section 18.1 BEFORE Investigation 18.1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pic>
        <p:nvPicPr>
          <p:cNvPr id="98" name="Picture 22" descr=""/>
          <p:cNvPicPr/>
          <p:nvPr/>
        </p:nvPicPr>
        <p:blipFill>
          <a:blip r:embed="rId1"/>
          <a:stretch/>
        </p:blipFill>
        <p:spPr>
          <a:xfrm>
            <a:off x="5578560" y="2133720"/>
            <a:ext cx="3489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438280"/>
            <a:ext cx="4267440" cy="34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e energy field created by electricity and magnetism can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Futura Md BT"/>
              </a:rPr>
              <a:t>oscillate</a:t>
            </a:r>
            <a:r>
              <a:rPr b="0" i="1" lang="en-US" sz="2800" spc="-1" strike="noStrike">
                <a:solidFill>
                  <a:srgbClr val="0000ff"/>
                </a:solidFill>
                <a:latin typeface="Futura Md BT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and it supports waves that move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876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These waves are called </a:t>
            </a:r>
            <a:r>
              <a:rPr b="0" lang="en-US" sz="2800" spc="-1" strike="noStrike">
                <a:solidFill>
                  <a:srgbClr val="ff0000"/>
                </a:solidFill>
                <a:latin typeface="Futura Md BT"/>
              </a:rPr>
              <a:t>electromagnetic waves</a:t>
            </a:r>
            <a:r>
              <a:rPr b="0" lang="en-US" sz="2800" spc="-1" strike="noStrike">
                <a:solidFill>
                  <a:srgbClr val="0000ff"/>
                </a:solidFill>
                <a:latin typeface="Futura Md BT"/>
              </a:rPr>
              <a:t>.</a:t>
            </a: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799160" y="2590920"/>
            <a:ext cx="41925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213336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4160" indent="-2541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Electromagnetic waves have both an electric part and a magnetic part and the two parts exchange energy back and forth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4160" indent="-25416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A 3-D view of an electromagnetic wave shows the electric and magnetic portions. 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4191120" cy="3193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304920" y="56386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7040" indent="-257040">
              <a:lnSpc>
                <a:spcPct val="100000"/>
              </a:lnSpc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wavelength and amplitude of the waves are labeled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λ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Futura Md BT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, respectively.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28200" y="1828440"/>
            <a:ext cx="82105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The higher the frequency of the light, the higher the energy of the wave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  <a:p>
            <a:pPr marL="257040" indent="-25704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utura Md BT"/>
              </a:rPr>
              <a:t>Since color is related to energy, there is also a direct relation between color, frequency, and wavelength.</a:t>
            </a:r>
            <a:endParaRPr b="1" lang="en-US" sz="2400" spc="-1" strike="noStrike">
              <a:solidFill>
                <a:srgbClr val="0000ff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28240" y="1165320"/>
            <a:ext cx="8915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The Electromagnetic Spectrum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pic>
        <p:nvPicPr>
          <p:cNvPr id="108" name="Picture 5" descr="14_2 color"/>
          <p:cNvPicPr/>
          <p:nvPr/>
        </p:nvPicPr>
        <p:blipFill>
          <a:blip r:embed="rId1"/>
          <a:srcRect l="0" t="23627" r="0" b="0"/>
          <a:stretch/>
        </p:blipFill>
        <p:spPr>
          <a:xfrm>
            <a:off x="914400" y="3562200"/>
            <a:ext cx="73850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5840" y="1339920"/>
            <a:ext cx="82119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18.1 Speed of Light</a:t>
            </a:r>
            <a:endParaRPr b="1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576600" y="2762280"/>
            <a:ext cx="1784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c  =  </a:t>
            </a:r>
            <a:r>
              <a:rPr b="1" lang="en-US" sz="3600" spc="-1" strike="noStrike">
                <a:solidFill>
                  <a:srgbClr val="003399"/>
                </a:solidFill>
                <a:latin typeface="NuptialScript"/>
              </a:rPr>
              <a:t>f  </a:t>
            </a:r>
            <a:r>
              <a:rPr b="1" lang="en-US" sz="3600" spc="-1" strike="noStrike">
                <a:solidFill>
                  <a:srgbClr val="003399"/>
                </a:solidFill>
                <a:latin typeface="Symbol"/>
              </a:rPr>
              <a:t></a:t>
            </a:r>
            <a:r>
              <a:rPr b="1" lang="en-US" sz="3600" spc="-1" strike="noStrike">
                <a:solidFill>
                  <a:srgbClr val="003399"/>
                </a:solidFill>
                <a:latin typeface="Gill Sans MT"/>
              </a:rPr>
              <a:t>      </a:t>
            </a:r>
            <a:endParaRPr b="0" lang="en-US" sz="36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5410080" y="2685600"/>
            <a:ext cx="800280" cy="19044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838760" y="3352680"/>
            <a:ext cx="1162080" cy="59076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3" name="Line 6"/>
          <p:cNvSpPr/>
          <p:nvPr/>
        </p:nvSpPr>
        <p:spPr>
          <a:xfrm flipH="1">
            <a:off x="2895120" y="3029040"/>
            <a:ext cx="6289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268320" y="2505240"/>
            <a:ext cx="241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Wavelength (m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118200" y="3800520"/>
            <a:ext cx="225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Frequency (Hz)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63480" y="2771640"/>
            <a:ext cx="209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Speed of light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3 x 10</a:t>
            </a:r>
            <a:r>
              <a:rPr b="1" lang="en-US" sz="2400" spc="-1" strike="noStrike" baseline="30000">
                <a:solidFill>
                  <a:srgbClr val="6699ff"/>
                </a:solidFill>
                <a:latin typeface="Gill Sans MT"/>
              </a:rPr>
              <a:t>8</a:t>
            </a:r>
            <a:r>
              <a:rPr b="1" lang="en-US" sz="2400" spc="-1" strike="noStrike">
                <a:solidFill>
                  <a:srgbClr val="6699ff"/>
                </a:solidFill>
                <a:latin typeface="Gill Sans MT"/>
              </a:rPr>
              <a:t> m/sec</a:t>
            </a:r>
            <a:endParaRPr b="0" lang="en-US" sz="2400" spc="-1" strike="noStrike">
              <a:solidFill>
                <a:srgbClr val="000099"/>
              </a:solidFill>
              <a:latin typeface="Symbo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55911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17:59:36Z</dcterms:created>
  <dc:creator>Patsy DeCoster</dc:creator>
  <dc:description/>
  <dc:language>en-US</dc:language>
  <cp:lastModifiedBy>MSU-IIT IDS</cp:lastModifiedBy>
  <dcterms:modified xsi:type="dcterms:W3CDTF">2011-02-07T17:19:35Z</dcterms:modified>
  <cp:revision>327</cp:revision>
  <dc:subject/>
  <dc:title>PowerPoint Presentation</dc:title>
</cp:coreProperties>
</file>